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AB2-9751-4359-B43D-D7BA5B1A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5F3-BB04-4FB6-8D52-A355023C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4C9-B4BF-4040-A7BD-679C58E7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E4D-5C82-47CA-B3AA-A331DD90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F77-1AF4-43AB-BFA8-8D476F6C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32C-B5DD-4E73-AB51-73461241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101-B0E5-4CD7-9D82-57EBE0A7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216-392E-4894-8DC9-754CD805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845-3E1B-444A-B242-7B857E7F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B0E-1B17-4E57-8E18-F0B81FA0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4FB-5266-47E7-8551-F62AB823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33E-AB0B-4355-8232-65712C15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8E88-C83E-4DC5-BF42-219DA8D07BF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35</a:t>
            </a:r>
            <a:br>
              <a:rPr sz="8000"/>
            </a:b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НА  ГОЛГОФУ  ВЕДИ</a:t>
            </a:r>
            <a:br>
              <a:rPr sz="43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480" y="857160"/>
            <a:ext cx="8715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На Голгофу веди мене знову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Як побачиш, що в серці згас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Промінь вічного, дивного Слов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Щоб вогнем знов палала душ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Щоб вогнем знов палала душ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680" y="857160"/>
            <a:ext cx="82864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Я безсилий, як битва суво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Якщо я упаду в боротьбі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На Голгофу веди мене знову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Бо вся сила моя – у Тобі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Бо вся сила моя – у Тобі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1320" y="714240"/>
            <a:ext cx="8429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Коли серце стискає від болю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Коли плаче і тужить душа, -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На Голгофу веди мене знову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Бо утіха лиш біля Христ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Бо утіха лиш біля Христ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81120"/>
            <a:ext cx="91440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Бо лиш жертва голгофська, Христов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Може мати для мене цін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На Голгофу веди мене знову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ам я віру й надію зміцню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ам я віру й надію зміцн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35</a:t>
            </a:r>
            <a:br>
              <a:rPr sz="8000"/>
            </a:b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НА  ГОЛГОФУ  ВЕДИ</a:t>
            </a:r>
            <a:br>
              <a:rPr sz="43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0:17:47Z</dcterms:created>
  <dc:creator>SAO Lutsk-1</dc:creator>
  <dc:description/>
  <dc:language>en-US</dc:language>
  <cp:lastModifiedBy>Сергей Литовченко</cp:lastModifiedBy>
  <dcterms:modified xsi:type="dcterms:W3CDTF">2018-08-31T08:49:50Z</dcterms:modified>
  <cp:revision>7</cp:revision>
  <dc:subject/>
  <dc:title>39  ЧУДОВА ЛАСКА </dc:title>
</cp:coreProperties>
</file>