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6172-CF95-4A35-BDD5-835014586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5DD0-E4C1-4BF2-A209-964AA887E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BF4A-75B3-4108-B631-A913B6787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BEC6-2387-4680-BFD9-4FCA51575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A48B-0A14-4444-B781-66BF7CE5C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2909-BBD6-486E-92C1-1E537D2E7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2199-7CF3-4D29-8668-7F01C4D29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1569-A7B7-4D47-8310-033BA9C02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BA59-F38F-4632-9FCA-EA2DEB734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BCE8-A112-46D5-8DC9-A382D3B2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1CD3-80CB-407A-B9A7-2C39132D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598F-04DB-4361-8B38-4AA0A31B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53A1E-289C-4FFF-986E-035172FEF42B}" type="slidenum">
              <a:rPr b="0" lang="uk-U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74760"/>
            <a:ext cx="7772400" cy="23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№ </a:t>
            </a:r>
            <a:r>
              <a:rPr b="1" lang="uk-U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</a:t>
            </a:r>
            <a:br>
              <a:rPr sz="4000"/>
            </a:br>
            <a:br>
              <a:rPr sz="4000"/>
            </a:br>
            <a:r>
              <a:rPr b="1" lang="ru-RU" sz="4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В ЗЕМНІЙ ДОЛИНІ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914560"/>
            <a:ext cx="6400800" cy="13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alibri"/>
              </a:rPr>
              <a:t>«НОВА  ПІСНЯ»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-360" y="1143000"/>
            <a:ext cx="957276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земній долині задоволений я,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оч і хатина небагата моя,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е в тім місці, де спасенні живуть,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не багаті оселі там ждуть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спів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42920" y="1339920"/>
            <a:ext cx="91440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 маю місце там у славній країні,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 не старіють, де вічна весна,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І вічно буду я з Ісусом там жит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ли ввійду вже у небеса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42560" y="1339920"/>
            <a:ext cx="89298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раз буває, що дорога моя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же не під силу й знемагаюся я,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Ще не багато і мети досягну,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ляхом спасіння я в небо ввійду</a:t>
            </a: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спів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42560" y="1446120"/>
            <a:ext cx="89298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 маю місце там у славній країні,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 не старіють, де вічна весна,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І вічно буду я з Ісусом там жит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ли ввійду вже у небеса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179360"/>
            <a:ext cx="8686800" cy="34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оч зустрічаю горе я і недуги,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 добре знаю, що до неба іду;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ше дочасно я з’явився сюди –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небі буду я з Богом завжди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спів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1125360"/>
            <a:ext cx="9144000" cy="34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 маю місце там у славній країні,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 не старіють, де вічна весна,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І вічно буду я з Ісусом там жит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ли ввійду вже у небеса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911160"/>
            <a:ext cx="7772400" cy="178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ЗЕМНІЙ ДОЛИНІ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2914560"/>
            <a:ext cx="6400800" cy="13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 будемо співати й радіти по всі наші дні – Псл. 90:14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1T08:03:57Z</dcterms:created>
  <dc:creator>SAO Lutsk-1</dc:creator>
  <dc:description/>
  <dc:language>en-US</dc:language>
  <cp:lastModifiedBy>Сергей Литовченко</cp:lastModifiedBy>
  <dcterms:modified xsi:type="dcterms:W3CDTF">2018-08-31T09:27:34Z</dcterms:modified>
  <cp:revision>7</cp:revision>
  <dc:subject/>
  <dc:title>471  В ЗЕМНІЙ ДОЛИНІ</dc:title>
</cp:coreProperties>
</file>