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B4B-BF44-4805-8886-11FBCAA9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B47D-42C3-458C-8EB3-F3A3F89D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195-668C-4C9B-BD9A-7A63DE10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83D-BD14-4EF0-9423-C587B9B5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4ED-C608-4BD8-A054-BFA8FF67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725-76CF-455C-8AF2-BD2762F3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8A75-EFE0-4EE7-A9F0-416B273A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0E4-69BD-4EE3-8086-752043BB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03F2-8D05-4CA4-A2F4-3CAF7B11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849-91B9-48E3-8769-6D7BB5BE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BCE-CB06-438C-B758-50928CDE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60A-5EA6-4253-BD11-D43704EF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5C4B-7780-413F-AE74-5A8BB17A7C7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9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СУБОТНІЙ ДЕНЬ – ДЕНЬ РАДІСНИ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НОВА ПІСНЯ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42600" y="356760"/>
            <a:ext cx="8001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Суботній день – день радісний, чудовий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Святковою стає земна крас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Я поспішаю з Богом на розмову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І зір свій направляю в небес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28760" y="500040"/>
            <a:ext cx="85723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Ми всі сьогодні Бога тут прослави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До Нього в Божий дім ми спішимо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В серцях вівтар для Господа поставим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За день святий подяку віддамо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499680"/>
            <a:ext cx="85010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Я славлю Бога серцем і вустами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В молитві щиру вдячність принесу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І вірю, що Господь є поміж нами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Коліна біля Ніг Його схилю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9680" y="500040"/>
            <a:ext cx="83581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Я славлю Бога і люблю всім серце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За небо синє, сонце золоте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За дар великий, що спасінням зветься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За мир  і радість, що в серцях жив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499680"/>
            <a:ext cx="93582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Ми всі сьогодні Бога тут прославим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До Нього в Божий дім ми спішимо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В серцях вівтар для Господа поставим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За день святий ми славу віддамо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499680"/>
            <a:ext cx="9144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Суботній день для нас благословінн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Суботній день – спочинок для душі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Лунає в небеса з сердець хваління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За день святий подяку Ти прийм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СУБОТНІЙ ДЕНЬ – ДЕНЬ РАДІСНИ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НОВА ПІСНЯ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4:59:58Z</dcterms:created>
  <dc:creator>Admin</dc:creator>
  <dc:description/>
  <dc:language>en-US</dc:language>
  <cp:lastModifiedBy>Сергей Литовченко</cp:lastModifiedBy>
  <dcterms:modified xsi:type="dcterms:W3CDTF">2018-08-31T08:28:53Z</dcterms:modified>
  <cp:revision>34</cp:revision>
  <dc:subject/>
  <dc:title>000  ДЕ ЗГОДА В СІМЕЙСТВІ </dc:title>
</cp:coreProperties>
</file>