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76A-3CCE-4EF5-9DEB-EF86BA40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54C-B030-4ACF-ADAC-5DF415AF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B26-97AB-4549-B1BC-B1E7D26B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598-049C-412C-8DE1-B3FF4960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807-6B67-40BB-9954-E0F05848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CEE-22E8-4438-A0CF-84F47295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AAD-6269-4757-9657-ED0082C3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D1D-D3BA-4BE8-896E-85622AC9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14F-4ABC-46F6-9A25-56E62CC7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EC1-D898-47E5-BA34-0711243D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317-6E84-4817-A9AF-4847FC6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838-BF2F-4A21-A18D-718216CD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D9B1-4206-49C2-B853-33463560F93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8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8</a:t>
            </a:r>
            <a:br>
              <a:rPr sz="8000"/>
            </a:b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О,  ДУХ  СВЯТИЙ</a:t>
            </a:r>
            <a:br>
              <a:rPr sz="43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2920" y="1000080"/>
            <a:ext cx="91440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О, Дух Святий, ввійди в наші серц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І закарбуй у них волю Отц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Істину вічних Слі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и нам відкр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І зроби вільними, о, Дух Святи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896400"/>
            <a:ext cx="9144000" cy="36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О, Дух Святий, живи в наших серцях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Щоб віру зберегли аж до кінц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В небо вкажи нам шлях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Мир дай душі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Не покидай же нас, о, Дух Святи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1280" y="1200240"/>
            <a:ext cx="91440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Все, що ми маємо, Ти освяти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В наше життя ввійди і все візьм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І підкріпи. Коли безсилі ми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Не покидай же нас, о, Дух Святи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1280" y="681120"/>
            <a:ext cx="91440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Бо лиш жертва голгофська, Христов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Може мати для мене ціну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На Голгофу веди мене знову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ам я віру й надію зміцню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ам я віру й надію зміцню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8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8</a:t>
            </a:r>
            <a:br>
              <a:rPr sz="8000"/>
            </a:b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О,  ДУХ  СВЯТИЙ</a:t>
            </a:r>
            <a:br>
              <a:rPr sz="43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0:17:47Z</dcterms:created>
  <dc:creator>SAO Lutsk-1</dc:creator>
  <dc:description/>
  <dc:language>en-US</dc:language>
  <cp:lastModifiedBy>Сергей Литовченко</cp:lastModifiedBy>
  <dcterms:modified xsi:type="dcterms:W3CDTF">2018-08-31T08:56:02Z</dcterms:modified>
  <cp:revision>8</cp:revision>
  <dc:subject/>
  <dc:title>39  ЧУДОВА ЛАСКА </dc:title>
</cp:coreProperties>
</file>