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922-C5EB-4E0A-B1D8-62CFDCBD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18B-DE89-4645-B43B-EB9857A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0B8-D3B1-41E4-9EAC-46C93341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149-7FDD-4374-BC48-3F40B362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AE8-2068-4589-BEAE-2454037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464-E9BE-4A99-8DF2-EE49B6B6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BAC-B588-4643-868F-13E332C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2CF-DC4B-4989-8091-EA01C9F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780-4CD2-4D90-80AC-D4E169E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C16-8E61-402D-831A-56921DE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108-585C-424C-B40D-A9C2B5C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580-2960-46DE-825E-C353068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C1B0-8587-46A1-AABD-3EC2162B62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8</a:t>
            </a:r>
            <a:br>
              <a:rPr sz="48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 ДЕНЬ СУБОТНІЙ МИ ЗІБРАЛИС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алмы Сиона № 147 « В день отрадны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 НОВА ПІСН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960" y="85680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ень суботній ми зібралис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ім молитви, в дім святи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очем слів Твоїх навчатись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олю нам Свою відкри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9680" y="785520"/>
            <a:ext cx="8715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ень святий Творцю хвалінн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ай летить у небе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слава й поклонінн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честь, алілуя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642600"/>
            <a:ext cx="7572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Біля ніг Твоїх, Ісусе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хилимо свої серц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в молитві тихій, щирій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Ми прославимо Отц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78588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ень святий Творцю хвалінн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ай летить у небе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слава й поклонінн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честь, алілуя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856800"/>
            <a:ext cx="8215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Ми Тобі приносим слав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 наших немічних сердець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звучить Тобі “Осанна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ш Спаситель, наш Отець”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6760" y="785520"/>
            <a:ext cx="8643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ень святий Творцю хвалінн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ай летить у небес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слава й поклонінн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а, честь, алілуя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В ДЕНЬ СУБОТНІЙ МИ ЗІБРАЛИС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алмы Сиона № 147 «В день отрадны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27:16Z</dcterms:modified>
  <cp:revision>32</cp:revision>
  <dc:subject/>
  <dc:title>000  ДЕ ЗГОДА В СІМЕЙСТВІ </dc:title>
</cp:coreProperties>
</file>