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9E4-8974-4291-885C-51AF1AA4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958-1360-4531-B76D-CA56688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FC2-FD15-47C7-844B-1F6D5834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554-9948-4449-A9D5-5B88AC79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288-E013-4DD8-89CA-E275BED6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1B8-8BF5-4680-91A1-405CC9B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E12-E50F-465E-8C6F-25CBCCB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026-118D-412A-9BBE-3A46050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4F8-DE7C-44E4-81CA-FDA907C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E94-8EEC-4759-B996-59E5712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9A6-42FD-421B-91B1-7595BF4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241-6750-48C0-8C14-53A0647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834-0C97-4432-ACBB-33F20A1A6F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br>
              <a:rPr sz="4800"/>
            </a:b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ОСЬ  Я,  ЩОБ  СХИЛИТИС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499680"/>
            <a:ext cx="9358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вітлом засяй. Мій Господь, у темряві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чі мої просві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ай, щоб відчув я красу Твою в славі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іру мою укріп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42960" y="499680"/>
            <a:ext cx="842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хилитись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вклонитис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казати: «Ти-мій Бог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Ти – моя твердин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спасіння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натхнення, мій Господ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499680"/>
            <a:ext cx="93582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ічності  Цар, Ти – безмежно величний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ищий за славу небес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В світ Ти прийшов, як той Агнець покірний,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Ради людей йшов на хрест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4240" y="499680"/>
            <a:ext cx="8143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хилитись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вклонитис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казати: «Ти-мій Бог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Ти – моя твердин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спасіння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натхнення, мій Господ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6760" y="50004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наш Отець,  а  ми всі – Твої ді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росимо: благосло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опоможи па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тати й люби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Жертву Твою на хрест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2600" y="4996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хилитись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вклонитис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Ось я, щоб сказати: «Ти-мій Бог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Ти – моя твердин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спасіння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и – моє натхнення, мій Господ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ОСЬ  Я,  ЩОБ  СХИЛИТИС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29:54Z</dcterms:modified>
  <cp:revision>35</cp:revision>
  <dc:subject/>
  <dc:title>000  ДЕ ЗГОДА В СІМЕЙСТВІ </dc:title>
</cp:coreProperties>
</file>