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E1A-443F-496D-9D84-DEEA0405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8FC-9F6F-4454-8A75-C23D3AA7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BBB-66F5-4643-81DE-E27EAA47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79C-9C43-49D3-AEDB-C4D97C67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4BD-8FBE-40A8-93D8-43D9104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4D4-8FDA-483D-AA37-EFFC7AFA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5E5-4EBF-4D16-A9DB-4CA0AD1F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A72-7AD2-4669-9A6B-6F698B7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CF7-F5CF-4AC1-80AF-163936D1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917-9A5C-4AB5-861D-8500586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146-AA47-495A-9238-38B039A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119-E123-44A7-9F1C-627FF3A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FC30-7282-4586-A5B7-E29B750C28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997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Times New Roman"/>
              </a:rPr>
              <a:t>Великий Боже! </a:t>
            </a:r>
            <a:br>
              <a:rPr sz="6000"/>
            </a:br>
            <a:r>
              <a:rPr b="0" lang="uk-UA" sz="6000" spc="-1" strike="noStrike">
                <a:solidFill>
                  <a:srgbClr val="ffffff"/>
                </a:solidFill>
                <a:latin typeface="Times New Roman"/>
              </a:rPr>
              <a:t>Як на світ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погляну</a:t>
            </a:r>
            <a:endParaRPr b="0" lang="en-US" sz="6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71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№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35772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Times New Roman"/>
              </a:rPr>
              <a:t>Великий Боже! </a:t>
            </a:r>
            <a:br>
              <a:rPr sz="6000"/>
            </a:br>
            <a:r>
              <a:rPr b="0" lang="uk-UA" sz="6000" spc="-1" strike="noStrike">
                <a:solidFill>
                  <a:srgbClr val="ffffff"/>
                </a:solidFill>
                <a:latin typeface="Times New Roman"/>
              </a:rPr>
              <a:t>Як на світ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погляну</a:t>
            </a:r>
            <a:endParaRPr b="0" lang="en-US" sz="6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0" y="571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 №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НОВА ПІСНЯ”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713800" cy="51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ликий Боже! Як на світ погляну,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На все, на все,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Щ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о Ти створив в красі,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Як кожен твір Тобі складає шану,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І як обняв любов’ю Ти усіх;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642160" cy="51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оді, Господь мій дух співа Тобі: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ликий Ти! Великий Ти!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оді, Господь, мій дух співа Тобі: 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ликий Ти! Великий Ти!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840" y="228240"/>
            <a:ext cx="8750520" cy="51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Коли із хмар навислих грім лунає,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І в пітьмі ночі блискавка іскрить,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Як під дощем природа оживає,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селка в небі барвами горить;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642160" cy="51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оді, Господь мій дух співа Тобі: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ликий Ти! Великий Ти!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оді, Господь, мій дух співа Тобі: 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ликий Ти! Великий Ти!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785520"/>
            <a:ext cx="8785440" cy="46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Коли беру я книгу Заповітів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І в Ній читаю про Твої діла,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Як полюбив Ти нас, людей, на світі,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І Свого Сина з неба нам послав;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642160" cy="51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оді, Господь мій дух співа Тобі: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ликий Ти! Великий Ти!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оді, Господь, мій дух співа Тобі: 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ликий Ти! Великий Ти!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333440"/>
            <a:ext cx="91440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Коли Господь мене Сам закликає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І світить промінь сяєва Його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оді мій дух в покорі замовкає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Признавши велич Господа свого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642160" cy="51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Приспів: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оді, Господь мій дух співа Тобі: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ликий Ти! Великий Ти!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оді, Господь, мій дух співа Тобі: 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еликий Ти! Великий Ти!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20:32:04Z</dcterms:created>
  <dc:creator>Volodimir Nesteruk</dc:creator>
  <dc:description/>
  <dc:language>en-US</dc:language>
  <cp:lastModifiedBy>User</cp:lastModifiedBy>
  <dcterms:modified xsi:type="dcterms:W3CDTF">2017-02-22T16:37:22Z</dcterms:modified>
  <cp:revision>22</cp:revision>
  <dc:subject/>
  <dc:title>129. ТВЕРДО Я ВІРЮ</dc:title>
</cp:coreProperties>
</file>