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C88D-C7E5-454E-91A8-958BB271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17DF-9B0A-45D7-80B6-1D74006D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C8F4-BB8B-47E7-A104-6EAF231D7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C04E-98AB-4B9B-97AF-920EA7034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755D-450F-4C15-8F90-91627D15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A666-9A5B-40B6-AC7A-E6F87093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DA6F-5B89-47C0-AB44-A969CD1A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0781-E1CF-459B-B3B1-9375A1F0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E289-B801-4352-B326-5455795C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CF26-4A63-4E96-9740-0EB49524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F443-530C-474C-A02D-2589A6BF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F06A-CC30-440F-85DF-FC26BDB3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A08A-37DA-4843-A76D-745D8E013B2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57200" y="4357800"/>
            <a:ext cx="6343920" cy="3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uk-UA" sz="2200" spc="-1" strike="noStrike">
                <a:solidFill>
                  <a:srgbClr val="ffffff"/>
                </a:solidFill>
                <a:latin typeface="Times New Roman"/>
              </a:rPr>
              <a:t>НОВА ПІСНЯ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142920"/>
            <a:ext cx="7772400" cy="25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№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3</a:t>
            </a:r>
            <a:br>
              <a:rPr sz="4400"/>
            </a:br>
            <a:br>
              <a:rPr sz="4400"/>
            </a:br>
            <a:r>
              <a:rPr b="1" lang="ru-RU" sz="4800" spc="-1" strike="noStrike" u="sng">
                <a:solidFill>
                  <a:srgbClr val="ffffff"/>
                </a:solidFill>
                <a:uFillTx/>
                <a:latin typeface="Times New Roman"/>
              </a:rPr>
              <a:t>ТИ – МОЯ НАДІ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28800" y="856800"/>
            <a:ext cx="78580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Я дивлюся з вірою на Бога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Він зі мною всюди і завжди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Залишає серце сум, тривога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Бо потіху маю лише в Нім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риспів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42600" y="1000080"/>
            <a:ext cx="828684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Ти – надія, Бог мій і Спаситель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Ти – дорога, правда і життя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Джерело любові, сили, втіх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Кожен день в Тобі знаходжу я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1280" y="928800"/>
            <a:ext cx="914400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Серце радісно Тобі співає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Ти даєш надій промінь Свій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Скоро Ти прийдеш, я твердо знаю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І візьмеш мене у дім святий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риспів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57120" y="1071360"/>
            <a:ext cx="8501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Ти – надія, Бог мій і Спаситель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Ти – дорога, правда і життя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Джерело любові, сили, втіх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Кожен день в Тобі знаходжу я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42560" y="1071720"/>
            <a:ext cx="892980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Твоя ласка нас всіх об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`</a:t>
            </a: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єднал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І тепер ми - як одна сім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`</a:t>
            </a: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я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І за це нехай звучить “ОСАННА!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Честь Тобі і слава, і хвала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риспів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785520"/>
            <a:ext cx="91440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Ти – надія, Бог мій і Спаситель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Ти – дорога, правда і життя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Джерело любові, сили, втіх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Кожен день в Тобі знаходжу я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57200" y="4357800"/>
            <a:ext cx="6343920" cy="3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Times New Roman"/>
              </a:rPr>
              <a:t>«НОВА  ПІСНЯ»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142920"/>
            <a:ext cx="7772400" cy="25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№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3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ТИ – МОЯ НАДІ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4T14:59:58Z</dcterms:created>
  <dc:creator>Admin</dc:creator>
  <dc:description/>
  <dc:language>en-US</dc:language>
  <cp:lastModifiedBy>Сергей Литовченко</cp:lastModifiedBy>
  <dcterms:modified xsi:type="dcterms:W3CDTF">2018-08-31T09:02:52Z</dcterms:modified>
  <cp:revision>31</cp:revision>
  <dc:subject/>
  <dc:title>000  ДЕ ЗГОДА В СІМЕЙСТВІ </dc:title>
</cp:coreProperties>
</file>