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731D5-63CD-482D-A4A1-E8374031D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7BA8A-927A-4116-8117-FE7D97795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0D91A-FAF8-4D98-9A25-189409C76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6577F-C50B-49BA-87A2-A3875FE24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7B250-FD14-4FCB-BF4E-0D4F5668F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E89E0-CB7B-44AC-B0EF-D500DA5B8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B214E-713B-4E7F-8852-165C62EB2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E5074-1BCB-414B-AB45-701605B6C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395AF-9FDB-443D-8E4D-4277B05EA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563ED-2170-4CE9-BE23-8316400B1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255B7-4F78-4342-B11B-23CE79E71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5550E-7BEC-4BDA-89B1-53F5BC8AB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09120" indent="-2343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937080" indent="-1872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11840" indent="-1872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686960" indent="-1872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686960" indent="-1872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686960" indent="-1872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B4515-D102-435C-9795-71C313EFE9FF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071720"/>
            <a:ext cx="7772400" cy="162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imes New Roman"/>
              </a:rPr>
              <a:t>№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29</a:t>
            </a:r>
            <a:br>
              <a:rPr sz="4800"/>
            </a:br>
            <a:br>
              <a:rPr sz="4800"/>
            </a:br>
            <a:r>
              <a:rPr b="1" lang="uk-UA" sz="4800" spc="-1" strike="noStrike">
                <a:solidFill>
                  <a:srgbClr val="ffffff"/>
                </a:solidFill>
                <a:latin typeface="Times New Roman"/>
              </a:rPr>
              <a:t>СЛОВО  БОЖЕ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571920"/>
            <a:ext cx="6400800" cy="65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Times New Roman"/>
              </a:rPr>
              <a:t>«НОВА  ПІСНЯ»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142560" y="856800"/>
            <a:ext cx="892980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ffffff"/>
                </a:solidFill>
                <a:latin typeface="Times New Roman"/>
              </a:rPr>
              <a:t>В домі Божім я знаходжу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ffffff"/>
                </a:solidFill>
                <a:latin typeface="Times New Roman"/>
              </a:rPr>
              <a:t>Слів Святих коштовний скарб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ffffff"/>
                </a:solidFill>
                <a:latin typeface="Times New Roman"/>
              </a:rPr>
              <a:t>Твердо вірю в слово Боже,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ffffff"/>
                </a:solidFill>
                <a:latin typeface="Times New Roman"/>
              </a:rPr>
              <a:t>Що тримаю у руках</a:t>
            </a:r>
            <a:r>
              <a:rPr b="0" lang="uk-UA" sz="4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Приспів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642600" y="785520"/>
            <a:ext cx="8072280" cy="43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Times New Roman"/>
              </a:rPr>
              <a:t>Слово Боже (Слово Боже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Times New Roman"/>
              </a:rPr>
              <a:t>Ясно сяє мов у темряві маяк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Times New Roman"/>
              </a:rPr>
              <a:t>(Мов у темряві маяк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Times New Roman"/>
              </a:rPr>
              <a:t>Дар небесний, (дар небесний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Times New Roman"/>
              </a:rPr>
              <a:t>Промінь ясний, що освітлює наш шлях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Times New Roman"/>
              </a:rPr>
              <a:t>Слово Боже – наш маяк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713880" y="642960"/>
            <a:ext cx="7858440" cy="400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ffffff"/>
                </a:solidFill>
                <a:latin typeface="Times New Roman"/>
              </a:rPr>
              <a:t>Слово Боже допоможе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ffffff"/>
                </a:solidFill>
                <a:latin typeface="Times New Roman"/>
              </a:rPr>
              <a:t>Подолати силу зла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ffffff"/>
                </a:solidFill>
                <a:latin typeface="Times New Roman"/>
              </a:rPr>
              <a:t>Жити правдою й любов'ю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ffffff"/>
                </a:solidFill>
                <a:latin typeface="Times New Roman"/>
              </a:rPr>
              <a:t>Вчить нас Біблія свята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Приспів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857160" y="785520"/>
            <a:ext cx="8072640" cy="43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Times New Roman"/>
              </a:rPr>
              <a:t>Слово Боже (Слово Боже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Times New Roman"/>
              </a:rPr>
              <a:t>Ясно сяє мов у темряві маяк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Times New Roman"/>
              </a:rPr>
              <a:t>(Мов у темряві маяк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Times New Roman"/>
              </a:rPr>
              <a:t>Дар небесний, (дар небесний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Times New Roman"/>
              </a:rPr>
              <a:t>Промінь ясний, що освітлює наш шлях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Times New Roman"/>
              </a:rPr>
              <a:t>Слово Боже – наш маяк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1285920" y="857160"/>
            <a:ext cx="692928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ffffff"/>
                </a:solidFill>
                <a:latin typeface="Times New Roman"/>
              </a:rPr>
              <a:t>Силу дасть перемагати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ffffff"/>
                </a:solidFill>
                <a:latin typeface="Times New Roman"/>
              </a:rPr>
              <a:t>Всі спокуси у житті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ffffff"/>
                </a:solidFill>
                <a:latin typeface="Times New Roman"/>
              </a:rPr>
              <a:t>Потішає, підкріпляє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ffffff"/>
                </a:solidFill>
                <a:latin typeface="Times New Roman"/>
              </a:rPr>
              <a:t>Слово Господа завжди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Приспів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1285920" y="785520"/>
            <a:ext cx="6572160" cy="43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Times New Roman"/>
              </a:rPr>
              <a:t>О, Слово Боже (Слово Боже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Times New Roman"/>
              </a:rPr>
              <a:t>Світло ти          (Світло ти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Times New Roman"/>
              </a:rPr>
              <a:t>В житті постійно нам світи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Times New Roman"/>
              </a:rPr>
              <a:t>(Ти нам світи)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Times New Roman"/>
              </a:rPr>
              <a:t>О, Слово Боже, ясно сяй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Times New Roman"/>
              </a:rPr>
              <a:t>І нас веди в небесний край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Приспів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571320" y="785520"/>
            <a:ext cx="8001000" cy="43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Times New Roman"/>
              </a:rPr>
              <a:t>Слово Боже (Слово Боже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Times New Roman"/>
              </a:rPr>
              <a:t>Ясно сяє мов у темряві маяк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Times New Roman"/>
              </a:rPr>
              <a:t>(Мов у темряві маяк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Times New Roman"/>
              </a:rPr>
              <a:t>Дар небесний, (дар небесний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Times New Roman"/>
              </a:rPr>
              <a:t>Промінь ясний, що освітлює наш шлях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Times New Roman"/>
              </a:rPr>
              <a:t>Слово Боже – наш маяк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071720"/>
            <a:ext cx="7772400" cy="162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imes New Roman"/>
              </a:rPr>
              <a:t>№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29</a:t>
            </a:r>
            <a:br>
              <a:rPr sz="4800"/>
            </a:br>
            <a:br>
              <a:rPr sz="4800"/>
            </a:br>
            <a:r>
              <a:rPr b="1" lang="uk-UA" sz="4800" spc="-1" strike="noStrike">
                <a:solidFill>
                  <a:srgbClr val="ffffff"/>
                </a:solidFill>
                <a:latin typeface="Times New Roman"/>
              </a:rPr>
              <a:t>СЛОВО  БОЖЕ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571920"/>
            <a:ext cx="6400800" cy="65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Times New Roman"/>
              </a:rPr>
              <a:t>«НОВА  ПІСНЯ»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4T14:59:58Z</dcterms:created>
  <dc:creator>Admin</dc:creator>
  <dc:description/>
  <dc:language>en-US</dc:language>
  <cp:lastModifiedBy>Сергей Литовченко</cp:lastModifiedBy>
  <dcterms:modified xsi:type="dcterms:W3CDTF">2018-08-31T09:23:16Z</dcterms:modified>
  <cp:revision>34</cp:revision>
  <dc:subject/>
  <dc:title>000  ДЕ ЗГОДА В СІМЕЙСТВІ </dc:title>
</cp:coreProperties>
</file>