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AB0-6B1E-4368-B14A-21833674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38C5-ABF3-4FC2-B365-64935047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EF6-E67C-4700-B523-DFE57A19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C15-FDE0-445C-ACC7-E591F611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AAC-77B2-404E-BBD2-F7C91F6B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30F-5691-4BF0-8BE4-DAB2EA7D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E62B-FF95-4330-BD49-0EF53606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04DD-ABD7-4DAE-8824-3898C962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044-AE4B-4957-8DF0-E71D3D5D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938B-26A0-4652-BE5D-F411B662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1012-21A0-48C0-9CF7-2788ADD1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3F8-70B7-4B24-AF26-684DDAAB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0EA5-DCDB-4799-9C94-D5F8D5126F6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7</a:t>
            </a:r>
            <a:br>
              <a:rPr sz="4800"/>
            </a:b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КОЖЕН ДЕНЬ І ПОВСЯКЧА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«НОВА  ПІСНЯ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800" y="499680"/>
            <a:ext cx="62863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Кожен день і повсякчас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Бог піклується про нас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Щедро Він дає завжди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Хліб щоденний на столі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День минув, ніч настає –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Бог нам добрий сон дає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Не лишає ні на мить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В ясний день і в темну ніч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14240" y="499680"/>
            <a:ext cx="83584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Кожен день і повсякчас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uk-UA" sz="3600" spc="-1" strike="noStrike">
                <a:solidFill>
                  <a:srgbClr val="ffffff"/>
                </a:solidFill>
                <a:latin typeface="Times New Roman"/>
              </a:rPr>
              <a:t>кожен день і повсякчас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Кожен день і повсякча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i="1" lang="uk-UA" sz="3600" spc="-1" strike="noStrike">
                <a:solidFill>
                  <a:srgbClr val="ffffff"/>
                </a:solidFill>
                <a:latin typeface="Times New Roman"/>
              </a:rPr>
              <a:t>(кожен день і повсякчас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Кожен день і повсякча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i="1" lang="uk-UA" sz="3600" spc="-1" strike="noStrike">
                <a:solidFill>
                  <a:srgbClr val="ffffff"/>
                </a:solidFill>
                <a:latin typeface="Times New Roman"/>
              </a:rPr>
              <a:t>(кожен день і повсякчас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ог піклується про нас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57240" y="499680"/>
            <a:ext cx="60724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В хвилях всіх щоденних справ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Успіх, спокій посилав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Сам попереду іде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І за руку нас веде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І лунає у тиші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Його голос дорогий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Не лякайся грізних хвиль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Твердо віруй, сину Мій!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13880" y="499680"/>
            <a:ext cx="82155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Кожен день і повсякчас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uk-UA" sz="3600" spc="-1" strike="noStrike">
                <a:solidFill>
                  <a:srgbClr val="ffffff"/>
                </a:solidFill>
                <a:latin typeface="Times New Roman"/>
              </a:rPr>
              <a:t>кожен день і повсякчас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Кожен день і повсякча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i="1" lang="uk-UA" sz="3600" spc="-1" strike="noStrike">
                <a:solidFill>
                  <a:srgbClr val="ffffff"/>
                </a:solidFill>
                <a:latin typeface="Times New Roman"/>
              </a:rPr>
              <a:t>(кожен день і повсякчас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Кожен день і повсякча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i="1" lang="uk-UA" sz="3600" spc="-1" strike="noStrike">
                <a:solidFill>
                  <a:srgbClr val="ffffff"/>
                </a:solidFill>
                <a:latin typeface="Times New Roman"/>
              </a:rPr>
              <a:t>(кожен день і повсякчас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ог піклується про нас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57240" y="499680"/>
            <a:ext cx="58579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І якщо навколо шторм –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Я спокійний із Христом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І коли в очах сльоза –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Витре сльози Його Рука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Чи блукаю у світах –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Чую Голос я Христа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Він – мій Бог, і Він – мій щит –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Від недолі захистить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2600" y="499680"/>
            <a:ext cx="80722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Кожен день і повсякчас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uk-UA" sz="3600" spc="-1" strike="noStrike">
                <a:solidFill>
                  <a:srgbClr val="ffffff"/>
                </a:solidFill>
                <a:latin typeface="Times New Roman"/>
              </a:rPr>
              <a:t>кожен день і повсякчас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Кожен день і повсякча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i="1" lang="uk-UA" sz="3600" spc="-1" strike="noStrike">
                <a:solidFill>
                  <a:srgbClr val="ffffff"/>
                </a:solidFill>
                <a:latin typeface="Times New Roman"/>
              </a:rPr>
              <a:t>(кожен день і повсякчас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Кожен день і повсякча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i="1" lang="uk-UA" sz="3600" spc="-1" strike="noStrike">
                <a:solidFill>
                  <a:srgbClr val="ffffff"/>
                </a:solidFill>
                <a:latin typeface="Times New Roman"/>
              </a:rPr>
              <a:t>(кожен день і повсякчас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ог піклується про нас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КОЖЕН ДЕНЬ І ПОВСЯКЧА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«НОВА  ПІСНЯ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4:59:58Z</dcterms:created>
  <dc:creator>Admin</dc:creator>
  <dc:description/>
  <dc:language>en-US</dc:language>
  <cp:lastModifiedBy>Сергей Литовченко</cp:lastModifiedBy>
  <dcterms:modified xsi:type="dcterms:W3CDTF">2018-08-31T09:10:17Z</dcterms:modified>
  <cp:revision>32</cp:revision>
  <dc:subject/>
  <dc:title>000  ДЕ ЗГОДА В СІМЕЙСТВІ </dc:title>
</cp:coreProperties>
</file>