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DA2A-F849-4EEF-AD9E-364DA822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532-C6B6-4CEB-AC4A-09BB699F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153-9571-4991-BAC9-922B5A02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E86-E1DF-4CF1-9494-4B3A8BFB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AAB4-621F-445E-8B68-DAD415AB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12E9-BE0D-4A01-A2FA-3208062F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D9D8-7967-446F-A21C-573A326A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CD6-845C-47C4-9EBA-3B4346C1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15E4-DBBD-4AC2-AF0E-81D1BAF4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3ED2-70AA-4799-B099-79F60DF6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1CF6-AD4A-4C8E-83B5-B57269AB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4A1F-06D1-45B2-B941-FA1A28A0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7540-96D3-40F4-9FE3-583ACDE6186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8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ЧУДОВА ЛАСКА</a:t>
            </a:r>
            <a:br>
              <a:rPr sz="4300"/>
            </a:b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285800"/>
            <a:ext cx="64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«НОВА  ПІСН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9720" y="1200240"/>
            <a:ext cx="764388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Чудова ласка, що знайшл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Мене у прірві зла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До ніг Ісуса привела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Життя нове дала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00080" y="1200240"/>
            <a:ext cx="750096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Ісус мене так полюбив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Що всі гріхи простив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З Отцем на віки примирив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І небо відчинив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356840" y="1200240"/>
            <a:ext cx="671508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Господню ласку я ціню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І щиро так люблю;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Навік Ісусу віддаю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Я волю всю свою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8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ЧУДОВА ЛАСКА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57200" y="4285800"/>
            <a:ext cx="64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«НОВА  ПІСН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0:17:47Z</dcterms:created>
  <dc:creator>SAO Lutsk-1</dc:creator>
  <dc:description/>
  <dc:language>en-US</dc:language>
  <cp:lastModifiedBy>Сергей Литовченко</cp:lastModifiedBy>
  <dcterms:modified xsi:type="dcterms:W3CDTF">2018-08-31T09:24:54Z</dcterms:modified>
  <cp:revision>7</cp:revision>
  <dc:subject/>
  <dc:title>39  ЧУДОВА ЛАСКА </dc:title>
</cp:coreProperties>
</file>