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8F2-E514-4DBD-97D6-9A6133B3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97B-9FB1-4568-8DBA-89961F2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25E-3DDF-41DD-BDD4-779DDCD3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BF9-3BE4-410D-8683-1B8773EE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92D-B835-4943-A3FB-4738178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A50-F0B6-4646-A8CB-B00CE92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53E-BFB4-4CAC-B087-0A36D27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6BF-8416-4E4B-93BB-7B06668D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C5A-9186-45BF-A34C-9B40C262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DD9-4CB3-4A25-90BB-12E6504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52E-80FC-4FC1-8083-A50969F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51D-F3D5-4D07-ABF6-EA3B583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DF4D-C551-450F-81BB-7B3E282EC0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  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ПОГЛЯНЬ  НА  ХРИС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856800"/>
            <a:ext cx="9358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Боже великий, всесильний наш Цар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для нас грішних спасіння придба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З неба – на хрест, за гріхи – на ганьб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к за дав вічності я відплачу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6760" y="1142640"/>
            <a:ext cx="85726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подивись на той хрест у цей час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е помирав Цар неба за на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изнай гріхи перед Богом свої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у смиренні схились перед Ни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840" y="1285920"/>
            <a:ext cx="8929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Ньому надію знайдеш і спокі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Ньому – і радість, і мир для душ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відвертай погляд свій від Христ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ам, на Голгофі, Він дав нам житт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  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ПОГЛЯНЬ  НА  ХРИС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50:30Z</dcterms:modified>
  <cp:revision>35</cp:revision>
  <dc:subject/>
  <dc:title>000  ДЕ ЗГОДА В СІМЕЙСТВІ </dc:title>
</cp:coreProperties>
</file>