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754-1C56-4762-9B06-9BB758E0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9F2-F5F3-46E0-99FB-7964962A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590-90AD-48DD-AFCE-3CC48E5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429-DB57-4291-9C45-A7BFA85C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A1F-37A0-453B-B923-C9478799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9F9-0766-4636-B739-2B00292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E0B-0A53-4836-9F68-3FE1F01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D15-C82D-446D-A87F-38C268DF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DC0-102C-437B-9517-C184B16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5F4-45BF-4D75-8DE8-C274393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866-A924-4A8B-8AF7-20BD3CD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2E7-FF8C-447A-91E6-071602D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061-87AE-4561-8F63-2CCAEECB90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салмы Сиона № 190 «Лишь за Тобой Спасител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4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СУС  ЗАРАДИ  М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4280" y="856800"/>
            <a:ext cx="7358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сус заради мен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алишив Свій прест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емлю з′єднав із неб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Голгофським він хрестом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28800" y="785520"/>
            <a:ext cx="7858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ава Тоб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Слава Тобі, мій Христос, Спаситель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ава Тобі й хв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Хочу завжд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Хочу завжди, мій Творець, мій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 Тобою бути 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3920" y="713880"/>
            <a:ext cx="7215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Ласкою й милосердя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Мене Він полони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вітлом добра й любові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ушу мою зігрі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57160" y="785520"/>
            <a:ext cx="7858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ава Тоб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Слава Тобі, мій Христос, Спаситель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ава Тобі й хв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Хочу завжд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Хочу завжди, мій Творець, мій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 Тобою бути 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85920" y="857160"/>
            <a:ext cx="71438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очу всім розказа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Про дивний подвиг Твій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Буду Тобі співати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Ти – Відкупитель мі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5880" y="785520"/>
            <a:ext cx="7858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ава Тоб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Слава Тобі, мій Христос, Спаситель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ава Тобі й хв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Хочу завжд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Хочу завжди, мій Творець, мій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 Тобою бути 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салмы Сиона № 190 «Лишь за Тобой Спасител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СУС  ЗАРАДИ  М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9:23:36Z</dcterms:modified>
  <cp:revision>35</cp:revision>
  <dc:subject/>
  <dc:title>000  ДЕ ЗГОДА В СІМЕЙСТВІ </dc:title>
</cp:coreProperties>
</file>