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BDD-A1FF-45E7-ACDA-F7EFA168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240-AA3B-4A98-B521-5EC38B44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EED-7309-41E5-ABB5-62F93ACB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C18-EED6-4A34-B00F-C527C81F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309-FC4B-4139-98E4-744BF2C6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77B-B561-49FA-BC6D-44CCCA7F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E54-3BBE-46C1-90AA-BF81A5C5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267-D431-4120-9DBD-E5A8A486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FCF-43C8-4DFE-AE2F-59A265D0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460-3748-4C3E-86C4-5C52D9D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21D-5DDC-4F9E-BA06-7C21468F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2E3-02C0-4F7B-AB33-814577A1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7AC0-F322-4160-91DA-130CEBB824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5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РАДІСНО МИ ПРОСЛАВЛЯЄ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ОВА ПІСНЯ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14720" y="499680"/>
            <a:ext cx="62863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Радісно ми прославляє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Бога слави і чудес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Серце перед Ним схиляєм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Просим милості з небес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Розжени невір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`</a:t>
            </a: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я хмари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Віддали сумнівів тьму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Приведи у вічну славу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Мир дай серцю нашому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720" y="499680"/>
            <a:ext cx="56437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Небо і земля велично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Сповіщають міць Твою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Зорі з ангелами гучно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Віддають хвалу Творцю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Луки, поле, ліс і гори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Сині ріки та моря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Спів пташок і хмар узор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Величають всі Творця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14360" y="499680"/>
            <a:ext cx="60721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Друзі, пісню величаву,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Що з світанком почалась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Відкупителю на славу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Віддамо, бо Він нас спас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Дружнім співом прославляйт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Того, Хто усе створив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Пісню вдячності співайте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</a:rPr>
              <a:t>Він Свою любов відкрив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РАДІСНО МИ ПРОСЛАВЛЯЄ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ОВА ПІСН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4:59:58Z</dcterms:created>
  <dc:creator>Admin</dc:creator>
  <dc:description/>
  <dc:language>en-US</dc:language>
  <cp:lastModifiedBy>Сергей Литовченко</cp:lastModifiedBy>
  <dcterms:modified xsi:type="dcterms:W3CDTF">2018-08-31T08:17:50Z</dcterms:modified>
  <cp:revision>34</cp:revision>
  <dc:subject/>
  <dc:title>000  ДЕ ЗГОДА В СІМЕЙСТВІ </dc:title>
</cp:coreProperties>
</file>