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5FD-2CBE-41C0-93F4-B49EF199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254-D932-4286-B3CE-5155E5FD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B0C-447A-4417-95E9-C21C25DD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024-5503-4EC2-A57B-7E78BAAE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61B-0045-465C-86A3-05EC936B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11C-E9C3-400E-93E1-D1A0B737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E6F-1A79-4BC1-B3E3-1553F34F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DD1-26BF-4874-B8CF-8EB3A90F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D1A-E37A-4D1A-913B-B11334E8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F75-3A94-4260-9B2E-C306768B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7F1-E4B0-44DD-8CFB-31E60A8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80D-B8ED-4F89-A639-BE80DBC3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A0A5-B3DE-4035-8682-B8C9B15DC0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5</a:t>
            </a: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ДРУЖЕ, ЗДІЙМИ ПОГЛЯД   СВІЙ  В  НЕБЕС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499680"/>
            <a:ext cx="9358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Друже, здійми погляд свій в небес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Звідти прийде допомога тво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ажко буває – не нарікай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Бог допоможе. Ти Бога чекай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499680"/>
            <a:ext cx="9358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орог війною на тебе іде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Друзі питають: «А де Бог твій є?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іра згасає? О, не барис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Стань на коліна та ревно молис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400" y="642960"/>
            <a:ext cx="8429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Друже, із вірою в небо погля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ам є твій Бог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вердо вір без вага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ін завжди поряд в горі й біді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ір в те, що Він допоможе тобі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499680"/>
            <a:ext cx="9358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Друже, здійми погляд свій в небес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ам є твій Бог, Він – розрада тво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Не озирайся, на Бога дивис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Стань на коліна та ревно молис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5</a:t>
            </a: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ДРУЖЕ, ЗДІЙМИ ПОГЛЯД   СВІЙ  В  НЕБЕС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9:03:35Z</dcterms:modified>
  <cp:revision>33</cp:revision>
  <dc:subject/>
  <dc:title>000  ДЕ ЗГОДА В СІМЕЙСТВІ </dc:title>
</cp:coreProperties>
</file>