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DD5-1916-4592-8331-DA05BB70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F4C-BFD1-4B8F-AEB5-3D73E9CA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F5B-CA56-4410-897B-73EAB211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216-10EF-4706-BF46-8495A0BD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A0C-BDAD-4DA6-BA1A-A20C6E2C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FBD-F80B-4816-A832-7C32590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6B2-2CE2-4306-A828-63CFF78A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1FB-736F-4C55-9328-59AB0036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67A-D73D-4855-BD82-781305DD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E3B-275A-42A0-85F4-87AD05E4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70D-83E7-4869-BB5B-CEAA3E9C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16C-3230-4028-970E-F1C84A7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2EE1-9648-449F-95AA-9C9F04C331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14</a:t>
            </a:r>
            <a:br>
              <a:rPr sz="4800"/>
            </a:br>
            <a:br>
              <a:rPr sz="4800"/>
            </a:b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ШВИДКО МИНУВ ТИЖДЕНЬ ПРАЦІ ВАЖКО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( ПС №149 “Всю неделю десница Господня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500040"/>
            <a:ext cx="8786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Швидко минув тиждень праці важкої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Знову до Бога у храм спішимо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Спраглій душі дасть води Він живої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Бо тільки в Бозі – святе джерело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57160" y="500040"/>
            <a:ext cx="7786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Всі хвилювання позаду лишаєм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І в цей день не згадаєм про них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Тільки Ісуса прославить бажаєм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Пісня подяки у небо летить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500040"/>
            <a:ext cx="9358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В день цей суботній, освячений, славний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Співом наповнені наші вуста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Низько схиляємось, Боже, в пошані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Біля підніжжя старого хреста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13880" y="500040"/>
            <a:ext cx="7929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Всі хвилювання позаду лишаєм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І в цей день не згадаєм про них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Тільки Ісуса прославить бажаєм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Пісня подяки у небо летить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499680"/>
            <a:ext cx="85726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Славимо Бога за кров, що спасає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За жертву Сина, що в муках вмирав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Серце тепер ні на мить не змовкає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За дар спасіння лунає хвала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14240" y="499680"/>
            <a:ext cx="8072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Всі хвилювання позаду лишаєм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І в цей день не згадаєм про них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Тільки Ісуса прославить бажаєм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Пісня подяки у небо летить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ШВИДКО МИНУВ ТИЖДЕНЬ ПРАЦІ ВАЖКО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( ПС №149 “Всю неделю десница Господня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9:11:33Z</dcterms:modified>
  <cp:revision>32</cp:revision>
  <dc:subject/>
  <dc:title>000  ДЕ ЗГОДА В СІМЕЙСТВІ </dc:title>
</cp:coreProperties>
</file>