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8143-D081-4369-A0F6-E8479E49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087-4FB2-417D-A0C1-DC821741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7CA-BA42-4B58-B985-3A296C5B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6F3-BC61-4EAD-BC4F-7F4E9B95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707C-DF12-4039-9DDA-31BD451D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67A4-FB6A-4D16-AFA7-C224CC11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E60-4BFE-4F9D-9AA6-B38FF968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34D-3229-4248-83B6-B8A26522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9A41-DBAA-4D05-9C2B-DB5B618A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8740-23CA-4DB2-B2FE-2D76C20A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31DC-1F2F-4307-9864-0E0F72E9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96EF-9489-4D9F-BB21-BBEF58CA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4E50-269A-4CF1-8374-C543AC6BF63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8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uk-UA" sz="8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7</a:t>
            </a:r>
            <a:br>
              <a:rPr sz="8000"/>
            </a:br>
            <a:r>
              <a:rPr b="1" lang="uk-UA" sz="6000" spc="-1" strike="noStrike">
                <a:solidFill>
                  <a:srgbClr val="ffffff"/>
                </a:solidFill>
                <a:latin typeface="Times New Roman"/>
              </a:rPr>
              <a:t>НАЧЕ  СНІГ</a:t>
            </a:r>
            <a:br>
              <a:rPr sz="43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285800"/>
            <a:ext cx="64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«НОВА  ПІСН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42960" y="571680"/>
            <a:ext cx="7858080" cy="42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Наче сніг, наче сніг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Хоч гріхи, мов багряниц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оже мій, знаю я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Що спасенний я Тобою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Через кров Твою й люб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Милість я Твою знайш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Через віру в Тебе можу бути я…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360" y="49968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Наче сніг, наче сніг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ог твої гріхи обмиє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Коли ти, друже мій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Серце Господу відкриєш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Ти прийми Його в житт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Буде радість без кінц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Він тебе очистить і вже будеш ти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452520"/>
            <a:ext cx="82296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99680" y="302760"/>
            <a:ext cx="70009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Наче сніг, наче сніг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Хоч гріхи, мов багряниц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оже мій, знаю я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Що спасенний я Тобо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Через кров Твою й люб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Милість я Твою знайш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Через віру в Тебе можу бути 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Наче сніг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8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uk-UA" sz="8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7</a:t>
            </a:r>
            <a:br>
              <a:rPr sz="8000"/>
            </a:br>
            <a:r>
              <a:rPr b="1" lang="uk-UA" sz="6000" spc="-1" strike="noStrike">
                <a:solidFill>
                  <a:srgbClr val="ffffff"/>
                </a:solidFill>
                <a:latin typeface="Times New Roman"/>
              </a:rPr>
              <a:t>НАЧЕ  СНІГ</a:t>
            </a:r>
            <a:br>
              <a:rPr sz="43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57200" y="4285800"/>
            <a:ext cx="64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«НОВА  ПІСН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0:17:47Z</dcterms:created>
  <dc:creator>SAO Lutsk-1</dc:creator>
  <dc:description/>
  <dc:language>en-US</dc:language>
  <cp:lastModifiedBy>Сергей Литовченко</cp:lastModifiedBy>
  <dcterms:modified xsi:type="dcterms:W3CDTF">2018-08-31T08:53:59Z</dcterms:modified>
  <cp:revision>8</cp:revision>
  <dc:subject/>
  <dc:title>39  ЧУДОВА ЛАСКА </dc:title>
</cp:coreProperties>
</file>