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D7FC-9206-4269-A79B-34ED26342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F4B7-893B-419B-AFBA-A2947E9A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0E6E-47FB-4429-BBE2-6770D6684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72F7-AD9A-4BF3-8CE8-DE78183F5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8F9A-E6E9-4E40-8320-398C031F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A94F-5CF0-4C69-ABD5-FC555614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9C79-5D4C-4DC3-AE44-DEF36BEC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FE1F-5CF9-47EB-BE39-EC66B6EC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2CDC-14D0-4619-84B6-678D8AC3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9D75-E904-42CF-9512-1EACB235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34FA-B78A-4A8D-9D81-8482A9E2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FFA3-A341-4845-A4EA-190CBD7E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B132-6A8F-4D29-9CA2-B81DE345124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57200" y="4357800"/>
            <a:ext cx="6343920" cy="3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uk-UA" sz="2200" spc="-1" strike="noStrike">
                <a:solidFill>
                  <a:srgbClr val="ffffff"/>
                </a:solidFill>
                <a:latin typeface="Times New Roman"/>
              </a:rPr>
              <a:t>НОВА    ПІСНЯ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№ </a:t>
            </a: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</a:t>
            </a:r>
            <a:br>
              <a:rPr sz="4400"/>
            </a:br>
            <a:br>
              <a:rPr sz="4400"/>
            </a:b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ЯК   ОЛЕНЬ   ПРАГНЕ   ДО ПОТОКІВ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142640" y="857160"/>
            <a:ext cx="671508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Як олень прагне до потоків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Так душа моя прагне Тебе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Я бажаю Тобі сказати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Що я так люблю Теб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Приспів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071360" y="785520"/>
            <a:ext cx="742932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Times New Roman"/>
              </a:rPr>
              <a:t>Ти один моє серце знаєш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500" spc="-1" strike="noStrike">
                <a:solidFill>
                  <a:srgbClr val="ffffff"/>
                </a:solidFill>
                <a:latin typeface="Times New Roman"/>
              </a:rPr>
              <a:t>І в нього Ти любов вливаєш.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500" spc="-1" strike="noStrike">
                <a:solidFill>
                  <a:srgbClr val="ffffff"/>
                </a:solidFill>
                <a:latin typeface="Times New Roman"/>
              </a:rPr>
              <a:t>Я бажаю Тобі сказати,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500" spc="-1" strike="noStrike">
                <a:solidFill>
                  <a:srgbClr val="ffffff"/>
                </a:solidFill>
                <a:latin typeface="Times New Roman"/>
              </a:rPr>
              <a:t>Що я так люблю Тебе.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42960" y="642600"/>
            <a:ext cx="850104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Простягнув Ти пробиті руки,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Та від смерті мене врятував,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Щоб мене захистить від муки -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На кресті Ти кров пролив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Приспів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99720" y="785880"/>
            <a:ext cx="75726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Times New Roman"/>
              </a:rPr>
              <a:t>Ти один моє серце знаєш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500" spc="-1" strike="noStrike">
                <a:solidFill>
                  <a:srgbClr val="ffffff"/>
                </a:solidFill>
                <a:latin typeface="Times New Roman"/>
              </a:rPr>
              <a:t>І в нього Ти любов вливаєш.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500" spc="-1" strike="noStrike">
                <a:solidFill>
                  <a:srgbClr val="ffffff"/>
                </a:solidFill>
                <a:latin typeface="Times New Roman"/>
              </a:rPr>
              <a:t>Я бажаю Тобі сказати,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500" spc="-1" strike="noStrike">
                <a:solidFill>
                  <a:srgbClr val="ffffff"/>
                </a:solidFill>
                <a:latin typeface="Times New Roman"/>
              </a:rPr>
              <a:t>Що я так люблю Тебе.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071720" y="714240"/>
            <a:ext cx="757224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Щирим серцем Тебе кохаю,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Бо життя дарував Ти мені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За Твою доброту й ласку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Дуже вдячний я Тобі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Приспів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071720" y="857160"/>
            <a:ext cx="750096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Times New Roman"/>
              </a:rPr>
              <a:t>Ти один моє серце знаєш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500" spc="-1" strike="noStrike">
                <a:solidFill>
                  <a:srgbClr val="ffffff"/>
                </a:solidFill>
                <a:latin typeface="Times New Roman"/>
              </a:rPr>
              <a:t>І в нього Ти любов вливаєш.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500" spc="-1" strike="noStrike">
                <a:solidFill>
                  <a:srgbClr val="ffffff"/>
                </a:solidFill>
                <a:latin typeface="Times New Roman"/>
              </a:rPr>
              <a:t>Я бажаю Тобі сказати,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500" spc="-1" strike="noStrike">
                <a:solidFill>
                  <a:srgbClr val="ffffff"/>
                </a:solidFill>
                <a:latin typeface="Times New Roman"/>
              </a:rPr>
              <a:t>Що я так люблю Тебе.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57200" y="4357800"/>
            <a:ext cx="6343920" cy="3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Times New Roman"/>
              </a:rPr>
              <a:t>«НОВА  ПІСНЯ»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ЯК   ОЛЕНЬ   ПРАГНЕ   ДО ПОТОКІВ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4T14:59:58Z</dcterms:created>
  <dc:creator>Admin</dc:creator>
  <dc:description/>
  <dc:language>en-US</dc:language>
  <cp:lastModifiedBy>Сергей Литовченко</cp:lastModifiedBy>
  <dcterms:modified xsi:type="dcterms:W3CDTF">2018-08-31T08:35:52Z</dcterms:modified>
  <cp:revision>31</cp:revision>
  <dc:subject/>
  <dc:title>000  ДЕ ЗГОДА В СІМЕЙСТВІ </dc:title>
</cp:coreProperties>
</file>