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8C6-5B82-4918-8029-5C1B9011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1C4-3439-44F3-9EED-187BBD4C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D11-C033-4C28-A4D6-02793ADA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3FF-4402-46E0-98C1-8E8D6B05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E27-A11D-48C7-99A2-58740B84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DE5-CD07-4FD7-A5AD-077FB2C7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162-AD8B-4004-85C1-6EF65E03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CC5-8872-48BF-8A0E-877A5F7F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366-73A2-4053-A72B-06B7573B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B30-93AC-4294-BA6B-8621B23F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600-57F5-4626-922B-24007E1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52C-E6CA-4308-9445-5E92A64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7304-F477-42D5-8A64-05FEED1156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8420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15</a:t>
            </a:r>
            <a:br>
              <a:rPr sz="4000"/>
            </a:br>
            <a:br>
              <a:rPr sz="40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СОНЦЕ НА ЗАХІД СХИЛИЛОС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7840"/>
            <a:ext cx="640080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 НОВА  ПІСНЯ 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3920" y="856800"/>
            <a:ext cx="7572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Сонце на захід схилилос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Золотом догорає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День благодатний, суботні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 сутінках наступає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680" y="785880"/>
            <a:ext cx="85723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Алелуя! Радісно всі співайт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Алелуя! Господа прославляйте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642600"/>
            <a:ext cx="69292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Добрий Господь обіця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З нами в цей вечір бут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Серце своє відкриваю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Хочу Його почут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680" y="785880"/>
            <a:ext cx="85010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Алелуя! Радісно всі співайт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Алелуя! Господа прославляйте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56800" y="642600"/>
            <a:ext cx="79297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онце на захід схилилось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Золотом догорає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ень благодатний, суботній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 сутінках наступає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785520"/>
            <a:ext cx="85010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Алелуя! Радісно всі співайт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Алелуя! Господа прославляйте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8420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15</a:t>
            </a:r>
            <a:br>
              <a:rPr sz="4000"/>
            </a:br>
            <a:br>
              <a:rPr sz="4000"/>
            </a:b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СОНЦЕ НА ЗАХІД СХИЛИЛОС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507840"/>
            <a:ext cx="640080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 НОВА  ПІСНЯ 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23:00Z</dcterms:modified>
  <cp:revision>31</cp:revision>
  <dc:subject/>
  <dc:title>000  ДЕ ЗГОДА В СІМЕЙСТВІ </dc:title>
</cp:coreProperties>
</file>