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CFD-4930-457F-9784-1DB7D403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0D3-6D84-4D41-A894-EDD8CDCC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77D-AB50-4C5C-89E8-F7B68553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563-366F-485F-B01F-7CB9B1B4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8EF-46F0-4165-A2E7-1B24D466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CCB-D348-4B0B-AA96-774E190A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421-383A-4356-89AC-97A4FC77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A6F-915D-4BE2-92A0-E3F65C01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19A-B184-4879-B08A-3DAC4DF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A67-618D-4B68-AE0E-7E728D2F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911-7AB2-4C14-AD3A-EA2AE3C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9B9-B973-4198-977B-8667C9E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578-7FF2-4CCB-8E33-E300D7B298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НОВА    ПІСНЯ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ХРИСТА  ПРОБИТІ  РУ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500040"/>
            <a:ext cx="93582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Христа пробиті рук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ростягнуті в цей ча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оніс страждання й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му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ін на хресті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за на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З любов'ю в світ з'явився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пасти рабів гріх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І з ними Він зріднився, за них віддав житт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642960"/>
            <a:ext cx="9572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ін нині любить грішних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к їх любив в той ча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 святилищі небесні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ін молиться за на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«Прости їм недовірʼя, гріхи, пороки вс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они Твоє творіння!»-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лагав Він на хрест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642960"/>
            <a:ext cx="9572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Христос ще закликає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«О, стомлена душ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ін руки простягає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«Спасайся від гріх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Святу любов Христову ти щиро оці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Його пересторогу сьогодні ти прий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ХРИСТА  ПРОБИТІ  РУ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46:42Z</dcterms:modified>
  <cp:revision>34</cp:revision>
  <dc:subject/>
  <dc:title>000  ДЕ ЗГОДА В СІМЕЙСТВІ </dc:title>
</cp:coreProperties>
</file>