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2742-9C31-45A7-93A3-499C0B00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20E1-F22A-483F-AD13-B83E6B65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7073-F95F-4170-8AA3-9FC81EFE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6B77-3538-425E-A48A-8CF30836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B559-9832-4636-9997-1FC65636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2165-BC3F-4DBE-AB14-E26ED73E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C64-47C3-436B-892B-601DD4C0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9DAA-F835-4D44-AE32-A74FC440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CE5A-A250-4108-9054-BC60EC5B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85AB-CB8D-4F5A-94D9-8BAF243C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B1A7-4DDB-4A1F-A6CB-978DAB2B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B603-D7F8-43CC-BE72-14D8C6A5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5C1E-73EB-4C56-8B80-AA06D4EF765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57200" y="4357800"/>
            <a:ext cx="6343920" cy="3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uk-UA" sz="2200" spc="-1" strike="noStrike">
                <a:solidFill>
                  <a:srgbClr val="ffffff"/>
                </a:solidFill>
                <a:latin typeface="Times New Roman"/>
              </a:rPr>
              <a:t>НОВА    ПІСНЯ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br>
              <a:rPr sz="4400"/>
            </a:br>
            <a:br>
              <a:rPr sz="4400"/>
            </a:b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У  ХРИСТ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28880" y="856800"/>
            <a:ext cx="5929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На очах бринить сльоз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Серце біль проймає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Як погляну на хрест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Де Ісус вмирає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856880" y="856800"/>
            <a:ext cx="557244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ffffff"/>
                </a:solidFill>
                <a:latin typeface="Times New Roman"/>
              </a:rPr>
              <a:t>У Христі, у Христі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ffffff"/>
                </a:solidFill>
                <a:latin typeface="Times New Roman"/>
              </a:rPr>
              <a:t>Є могутня сила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ffffff"/>
                </a:solidFill>
                <a:latin typeface="Times New Roman"/>
              </a:rPr>
              <a:t>Всі гріхи мої тяжкі 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ffffff"/>
                </a:solidFill>
                <a:latin typeface="Times New Roman"/>
              </a:rPr>
              <a:t>Кров Його обмила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9720" y="856800"/>
            <a:ext cx="76438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На Голгофі кров Христ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Тихо промовляє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«Я – твій Бог, в Мені життя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Все тобі прощаю»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857240" y="1000080"/>
            <a:ext cx="54295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ffffff"/>
                </a:solidFill>
                <a:latin typeface="Times New Roman"/>
              </a:rPr>
              <a:t>У Христі, у Христі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ffffff"/>
                </a:solidFill>
                <a:latin typeface="Times New Roman"/>
              </a:rPr>
              <a:t>Є могутня сила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ffffff"/>
                </a:solidFill>
                <a:latin typeface="Times New Roman"/>
              </a:rPr>
              <a:t>Всі гріхи мої тяжкі 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ffffff"/>
                </a:solidFill>
                <a:latin typeface="Times New Roman"/>
              </a:rPr>
              <a:t>Кров Його обмила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71360" y="785520"/>
            <a:ext cx="7143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На Голгофу, друже, йди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І схили коліна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Все тобі Господь простив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Змив твої провини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85600" y="928440"/>
            <a:ext cx="57150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ffffff"/>
                </a:solidFill>
                <a:latin typeface="Times New Roman"/>
              </a:rPr>
              <a:t>У Христі, у Христі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ffffff"/>
                </a:solidFill>
                <a:latin typeface="Times New Roman"/>
              </a:rPr>
              <a:t>Є могутня сила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ffffff"/>
                </a:solidFill>
                <a:latin typeface="Times New Roman"/>
              </a:rPr>
              <a:t>Всі гріхи мої тяжкі 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ffffff"/>
                </a:solidFill>
                <a:latin typeface="Times New Roman"/>
              </a:rPr>
              <a:t>Кров Його обмила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57200" y="4357800"/>
            <a:ext cx="6343920" cy="3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Times New Roman"/>
              </a:rPr>
              <a:t>«НОВА  ПІСНЯ»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br>
              <a:rPr sz="4400"/>
            </a:br>
            <a:br>
              <a:rPr sz="4400"/>
            </a:b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У  ХРИСТ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14:59:58Z</dcterms:created>
  <dc:creator>Admin</dc:creator>
  <dc:description/>
  <dc:language>en-US</dc:language>
  <cp:lastModifiedBy>Сергей Литовченко</cp:lastModifiedBy>
  <dcterms:modified xsi:type="dcterms:W3CDTF">2018-08-31T08:45:45Z</dcterms:modified>
  <cp:revision>32</cp:revision>
  <dc:subject/>
  <dc:title>000  ДЕ ЗГОДА В СІМЕЙСТВІ </dc:title>
</cp:coreProperties>
</file>