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F1B-2371-4735-AE9E-29577FE4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D2B-92BE-43A5-8F64-A7B1161E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513-3771-4589-8F28-AC60246D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96F-68D3-4F9D-A185-B518B194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0DD-3318-492E-95AD-0F8A60D0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F60-3343-4A83-B682-F39FAC8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69A-FCA9-45A2-AAD5-99612046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1A2-5AE0-4BDF-AA24-097BC395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E24-6602-4526-BF28-AC5802D0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4E4-6ED2-40B0-B2DB-CE29319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9BD-1921-471D-B47A-166472CF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FC1-5881-46B3-B802-ADB4539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4FEA-F5B8-4AA1-9788-2634A8782F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МІЙ  БОГ – ЖИТТЄВА  СИЛ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9720" y="571320"/>
            <a:ext cx="80010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Мій Бог – життєва сила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піваю я Йом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іднині й до могили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Допоки ще живу</a:t>
            </a:r>
            <a:r>
              <a:rPr b="1" lang="uk-UA" sz="3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00080" y="71388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Мене мій Бог зціляє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ід важких ран гріх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І кров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ю </a:t>
            </a: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гріх змиває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Що з ран Його текл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600" y="499680"/>
            <a:ext cx="83581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ін – Хліб святий щоднин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ін – джерело вод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ін – стежка до Вітчизн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ін – промінь в темряві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42680" y="499680"/>
            <a:ext cx="7358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Я Господом  радію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Надія в Нім м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Для Нього я співаю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«Хвала! Алілуя!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МІЙ  БОГ – ЖИТТЄВА  СИЛ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12:06Z</dcterms:modified>
  <cp:revision>39</cp:revision>
  <dc:subject/>
  <dc:title>000  ДЕ ЗГОДА В СІМЕЙСТВІ </dc:title>
</cp:coreProperties>
</file>