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FFF-A6FC-4DA3-BED0-1EF1D297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A2D-37C0-4A3B-9FDE-8388490C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BB7-D2E9-4BD7-AC52-FACFC97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184-3E96-42E6-8084-780D4E7A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443-34E7-4FA4-87C8-8CB2F87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3FB-0262-4998-8A56-94AD46B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DAF-FCC2-4B12-9946-8864919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3D2-8C1C-498B-9D3F-5C10D443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247-7BAC-4811-A13B-881B70AB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498-45B6-479A-AE4F-B01AE1E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C04-ECAD-476A-BB88-A049CEF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397-EBE8-4632-9F98-1E39240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7BDB-876B-4C81-9897-5B262130D4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8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ОДНА ЛИШ БІБЛІЯ СВЯ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алмы Сиона № 31 «О, КНИГА БОЖЬЯ, ТЫ – МАЯК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9720" y="856800"/>
            <a:ext cx="7643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Одна лиш Біблія свя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ля нас і світло, і ме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з неї знаєм, що за нас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омер у муках любий Спас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785520"/>
            <a:ext cx="6500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вітло ти          (Світло ти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 житті постійно нам сві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Ти нам сві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, ясно ся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 нас веди в небесний кра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42960"/>
            <a:ext cx="7500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ідкриє Слово Боже на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Єдиний шлях у небе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рога та – Господь Ісус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Я з Ним нічого не боюсь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85560" y="785520"/>
            <a:ext cx="6357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вітло ти          (Світло ти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 житті постійно нам сві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Ти нам сві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, ясно ся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 нас веди в небесний кра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85920" y="856800"/>
            <a:ext cx="7215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Одна лиш Біблія свя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ля нас і світло, і мет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Усіх, кого вона веде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-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Життя на небі вічне жд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57200" y="714240"/>
            <a:ext cx="61437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 (Слово Боже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Світло ти          (Світло ти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 житті постійно нам сві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(Ти нам сві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, Слово Боже, ясно ся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 нас веди в небесний кра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ОДНА ЛИШ БІБЛІЯ СВЯ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алмы Сиона № 31 «О, КНИГА БОЖЬЯ, ТЫ – МАЯК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38:29Z</dcterms:modified>
  <cp:revision>31</cp:revision>
  <dc:subject/>
  <dc:title>000  ДЕ ЗГОДА В СІМЕЙСТВІ </dc:title>
</cp:coreProperties>
</file>