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603-CE79-430E-896D-4C330C74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561-0DEA-43E8-BA2A-ADA6C409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132-8A6B-4AA6-9F6E-795C7C7A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B44-5471-4691-84F9-D7A15DB0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AD6-03D7-4ECC-8F3A-D4A65DA0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BC4-F50A-41C0-8FAB-38717DAB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E13-0FCA-4B53-895A-9BD2A1FB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9DB-5917-4EF8-B06C-228F493E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5BD-3AB5-410B-9127-84E2A637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CCE-5A04-44BE-934D-8240C9F6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E54-252F-4028-B4B4-6B40939E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FE3-0BA1-467F-B4D4-6F86387E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10FF-4A5F-48B4-BD86-AD2F7A36BA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200" spc="-1" strike="noStrike" u="sng">
                <a:solidFill>
                  <a:srgbClr val="ffffff"/>
                </a:solidFill>
                <a:uFillTx/>
                <a:latin typeface="Times New Roman"/>
              </a:rPr>
              <a:t>НОВА    ПІСНЯ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48420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14</a:t>
            </a:r>
            <a:br>
              <a:rPr sz="4800"/>
            </a:br>
            <a:br>
              <a:rPr sz="4800"/>
            </a:b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ДО  НІГ  ТВОЇХ  СХИЛЯЮСЬ  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00080" y="857160"/>
            <a:ext cx="74296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о ніг Твоїх схиляюсь я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семогутній Бог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 Тобі всі витоки житт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І спасіння я знайш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71720" y="785880"/>
            <a:ext cx="7286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О, Боже мій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Хто подібним є Тобі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о ніг Твоїх схиляюсь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Ти – любов м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71360" y="642960"/>
            <a:ext cx="81435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уша моя співа Тобі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Щирий гімн хвал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Ти Бог богів, Ти – Цар царів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седержитель лише Т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785880"/>
            <a:ext cx="72151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О, Боже мій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Хто подібним є Тобі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о ніг Твоїх схиляюсь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Ти – любов м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71360" y="642600"/>
            <a:ext cx="80722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о ніг Твоїх  своє життя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Наче дар, несу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І серце все, й мої вуст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Славлять Господа, Творц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42640" y="785520"/>
            <a:ext cx="72867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О, Боже мій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Хто подібним є Тобі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о ніг Твоїх схиляюсь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Ти – любов м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343920" cy="3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200" spc="-1" strike="noStrike" u="sng">
                <a:solidFill>
                  <a:srgbClr val="ffffff"/>
                </a:solidFill>
                <a:uFillTx/>
                <a:latin typeface="Times New Roman"/>
              </a:rPr>
              <a:t>НОВА    ПІСНЯ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48420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14</a:t>
            </a:r>
            <a:br>
              <a:rPr sz="4800"/>
            </a:br>
            <a:br>
              <a:rPr sz="4800"/>
            </a:b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ДО  НІГ  ТВОЇХ  СХИЛЯЮСЬ  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21:23Z</dcterms:modified>
  <cp:revision>32</cp:revision>
  <dc:subject/>
  <dc:title>000  ДЕ ЗГОДА В СІМЕЙСТВІ </dc:title>
</cp:coreProperties>
</file>